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86F5-D8BA-476C-95AF-93EAC885A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4E2E-E66B-49E0-8BFE-6E9ED01F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BD701E-3082-4267-8C49-FC080701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883BA7-585A-4E31-8322-6B1EDC73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16FD6A-0311-46CD-98E3-C1E507D6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10AF1C-B4ED-4515-94D5-73237CAC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E1A0CE-8E3C-4C80-9CE4-97A32873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D865A-25C5-453E-901E-A2E185F2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C71E41-EFBD-4B91-BBB2-8B7DBCD0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7A119-D46E-4369-87E3-826F213B9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2EDF79-C600-4FAE-9D3D-2B7CFF737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C9FE66-ABD5-4E28-8B87-451EF3514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4D69-045A-48B6-B2E9-C0D971E54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8F15AB-EB92-4281-B1C1-1785BAFE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F83BDE-087E-46A6-998D-ECE25231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48C3DF-84C0-4EBC-93ED-53A2C53C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8FD8CD-59E7-4FF7-BDB2-1677BDEF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292BEC-702A-48A9-9CA4-FB252D0B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95FC84-4036-4AA3-89E5-B512BC5D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56880C-DFB1-4F99-B2E6-84EB844B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8D8109-12A5-4716-A086-64F637CB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61BBA9-D0D4-49F3-A391-F6201A38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148415-C0FC-4FB4-81CF-2EBA1CD48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ED3D-7218-4F94-BDE5-518653955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4CA42E-177F-40F8-9B9F-37152DEC5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F324-4CC8-42D8-ABFF-9DB90ACF3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48CBE-ED80-4501-83BB-EBA4FCD1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387F-9B31-42CD-9B75-B0EBC67D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4B13-CCDE-45C4-9B0D-557670BB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6183-568B-481C-BA57-71E96865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3C7A2-DDCE-4A6F-AE6E-E8EDC4FB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FE4A-A056-45E9-9B0C-DA20110F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F7A9-F4A5-4C6F-8AF0-A07D40ED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7B67-0ED3-4854-B769-CA0B9813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4FE4-E4E8-42A6-A2EC-88579E19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62B34-E179-4CFF-90C0-0FEA3916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6AB3-B803-41CD-86F5-27D442A5F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BB30-6219-409A-83D1-AA5E30FE7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05962-4705-4F2F-9150-DC927A05E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39CF5-67BE-47C4-B18A-41DA970B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8A47F-3D10-43A2-86BD-37328F64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1F811-870B-4F71-82AB-6D858C6D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77496-6A6B-43ED-A89E-7F9390DD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5307-FFC6-4437-8669-9ED3C402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7FB84-295D-4DA1-8469-8A375085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50E6F-1582-4E12-8646-25489698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25B9C-DE2C-4DB8-8681-5F775D77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F7A95-51C7-4668-B727-2E02DE7E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20172-F4F6-40F4-8FAD-F48E82D4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3428D-FF06-4370-9BC6-C4A7E907C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D727C-140E-4830-BDC4-079C7018F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0F40D-10EB-4F4D-BB27-01F2D7578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B990F-FBDF-4C56-9BE6-02B76B84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5F7DA-FC85-4212-89C3-749310EB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D28F-AE2C-4C85-81D5-BF260470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35DDC-08F3-426F-8389-A1247395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42170-EBAC-4178-8FE5-D618D2F06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371B0-B21F-43ED-9691-87B83703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0D5AE-020B-46BA-A5EE-CAD183BC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22C5B-F2BB-471C-8F75-B67FAA9F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103AD-743B-42A0-9A93-FD566F95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59CD3-27D7-4B60-9125-26F2F864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7E98C-6BA3-4A3D-A57D-57F124D17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1E857-F962-4867-926E-7344EDCCC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03977-82C2-4751-BC79-53D359623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219F-F58F-4933-9DBC-526EF2E8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BE1A6-E03E-4D4D-8CFF-E0A7D130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6309F-E713-4E06-9AC8-F3B0DEC0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B751A-6BBD-4319-9349-D4978BBE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69CD7-18B2-4BDA-903C-B7FDEDEC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BE834-83EF-456E-AE49-620C6211B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380F1-59A7-4125-95D4-B92E126C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40AD7-C6B1-4824-ABFA-98698A37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63BA3-0538-49E1-B911-0B74A724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087B4-6C0A-4795-A2CE-D09A7263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FB9C2-5678-4D8C-8BC7-C04A471C4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A1D9-25AC-46D7-A069-E77ABE42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D4A25-3D36-46A1-BB10-1712123CD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E46E7-862C-41FD-8B4F-7B06AD6AA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5E808-A601-4B2E-B775-88832D27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B0C1E-C739-4A86-A944-A9AAD52E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9B4EC-2103-46F1-B9EB-FD1BDFAA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52068-D2CF-4F69-B857-2BDA5E36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DB5E5-3667-4A27-8BC7-849A8261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3DEAB-D5B5-4C63-93BE-D235E533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59DB9-B29D-430F-B5C0-60D7D020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2715E-D8D3-4941-AABB-96ECF9ED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2BCB-1F4F-4A4D-8C30-7C500941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E1174-7012-49C9-81A7-3B1C3FE1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23C56-6504-4C14-B2D3-E4AD4EE3D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FF503-A8C0-4156-9925-6F4E0DCEC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9AC0A-B51D-4542-B593-BC4DE6491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D6D10-21AB-468C-8030-93D463B5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54D83-0A96-4735-A7D6-E12972BE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06F43-71DA-436E-854A-F011B7C8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A57C7-F8BC-4BCC-8E9B-E4B5D76F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E3604-AB09-4190-971B-704E88A2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B08CE-0219-4952-B73F-55AE9F25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7A93-CB64-4A19-BB28-0D2FFFA0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6E0EC-DA4A-4B21-8814-66BDB49B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2A18B-33A2-4EB8-A59A-DB95F8B1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536C2-C804-4E27-9921-B32012F8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CCE61-2D38-49F6-B068-3AD86E73E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B45B9-7C83-4346-B75C-C3A63EE5B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D826C-769D-4E56-B4AB-1F27120D5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5D73B-20A1-4056-972A-C67931C1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77A2F-DA37-479A-8483-ADFDE7AB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CF4329-8012-4AAE-980C-ED85B3FB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75583-214C-4D5F-BB5A-E6D633ED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7F74-CF82-4FA3-B0A0-928846E0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1123E-009A-4019-8B0D-AA4D629C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D03C2-D7C5-4885-95E4-7F91ED48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67967-6144-4EB0-9A2F-19D5DC4B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3E643-C4DA-4FC8-BE4F-5D735CCC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07206-EB18-44DF-90E7-265523A2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A462E-D286-4A9E-AA3A-37F1C2F97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E3B5F-DB96-465B-A747-118FDABE7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801CF-4643-4853-89E0-3287A4B82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492794-D322-48E2-81F6-2CCE5528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1BA652-C08E-4E62-B9FC-3CF06A67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61D6-E813-4598-BE41-1FB28DB68DE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5B70-2261-45F7-9B35-8535B1E2877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A4ACE-1384-46D1-BB5B-B6053BE9123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895D-ED7C-4A75-8F10-15B4CCC9189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9C33-08B5-40FE-B742-5E27EC2CDBF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EF91-B448-4887-8F84-99AB30F8A0D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1676-11D2-4870-85EE-43A754FC2B22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73CD-3922-444F-B654-5DEBB20FB92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2CE7-EF07-4228-B0D7-7FA14387D1C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8A7C-F321-44C6-836C-5080218A96C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3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제 이름은 김진수입니다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제 이름은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영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마이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스즈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프랑스와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량위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처음 뵙겠습니다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. 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제 이름은 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.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반갑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저는 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야마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김경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톰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나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박정수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마이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최유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히로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리밍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영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Introduce yourself (in Korean) with the sentences from Lesson 1 to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스즈키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저는 스즈키입니다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진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제 이름은 김진수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스즈키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처음 뵙겠습니다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진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반갑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Corbel"/>
                <a:ea typeface="굴림"/>
              </a:rPr>
              <a:t>만나서 반갑습니다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름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na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처음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for the first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뵙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see, me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Corbel"/>
                <a:ea typeface="굴림"/>
              </a:rPr>
              <a:t>보다 </a:t>
            </a:r>
            <a:r>
              <a:rPr b="0" lang="ko-KR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Corbel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Corbel"/>
                <a:ea typeface="굴림"/>
              </a:rPr>
              <a:t>뵈옵다 </a:t>
            </a:r>
            <a:r>
              <a:rPr b="0" lang="ko-KR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00"/>
                </a:solidFill>
                <a:latin typeface="Corbel"/>
                <a:ea typeface="굴림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Corbel"/>
                <a:ea typeface="굴림"/>
              </a:rPr>
              <a:t>뵙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반갑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be glad, be n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rbel"/>
                <a:ea typeface="굴림"/>
              </a:rPr>
              <a:t>Irregular variation </a:t>
            </a:r>
            <a:r>
              <a:rPr b="0" lang="ko-KR" sz="2400" spc="-1" strike="noStrike">
                <a:solidFill>
                  <a:srgbClr val="ff0000"/>
                </a:solidFill>
                <a:latin typeface="Corbel"/>
                <a:ea typeface="굴림"/>
              </a:rPr>
              <a:t>반가웠습니다</a:t>
            </a:r>
            <a:r>
              <a:rPr b="0" lang="en-US" sz="2400" spc="-1" strike="noStrike">
                <a:solidFill>
                  <a:srgbClr val="ff0000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9bbb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는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postposition making noun su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는 한국말 선생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은 교과서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오늘은 비가 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root of the declarative ending when a noun is used as predicate (subject supple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는 김영수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것은 문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은 책상입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76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a humble expression of the first personla pronoun ‘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나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. Become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제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) with postposition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는 학생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저는 미국 사람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제가 그 일을 하겠습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제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) m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저의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나의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제 책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여기가 제 방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cc"/>
                </a:solidFill>
                <a:latin typeface="Corbel"/>
                <a:ea typeface="굴림"/>
              </a:rPr>
              <a:t>이것은 내 가방입니다</a:t>
            </a:r>
            <a:r>
              <a:rPr b="0" lang="en-US" sz="24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한국 사람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Korea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구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ho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회사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맑은 고딕"/>
              </a:rPr>
              <a:t>office?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) work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의자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chai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중국 사람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Chines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시계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watch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미국 사람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America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책상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esk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할아버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grandfat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일본 사람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Japanes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머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시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구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입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   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회사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버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책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의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저는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_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입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정수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지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회사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일본 사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중국 사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10-09T20:51:14Z</dcterms:modified>
  <cp:revision>76</cp:revision>
  <dc:subject/>
  <dc:title>KOREAN LANGUAGE</dc:title>
</cp:coreProperties>
</file>